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15.png" ContentType="image/png"/>
  <Override PartName="/ppt/media/image13.jpeg" ContentType="image/jpeg"/>
  <Override PartName="/ppt/media/explode.wav" ContentType="audio/x-wav"/>
  <Override PartName="/ppt/media/image12.jpeg" ContentType="image/jpeg"/>
  <Override PartName="/ppt/media/image4.png" ContentType="image/png"/>
  <Override PartName="/ppt/media/cashreg.wav" ContentType="audio/x-wav"/>
  <Override PartName="/ppt/media/hammer.wav" ContentType="audio/x-wav"/>
  <Override PartName="/ppt/media/image20.png" ContentType="image/png"/>
  <Override PartName="/ppt/media/push.wav" ContentType="audio/x-wav"/>
  <Override PartName="/ppt/media/image16.png" ContentType="image/png"/>
  <Override PartName="/ppt/media/chimes.wav" ContentType="audio/x-wav"/>
  <Override PartName="/ppt/media/image21.jpeg" ContentType="image/jpeg"/>
  <Override PartName="/ppt/media/image29.png" ContentType="image/png"/>
  <Override PartName="/ppt/media/image14.jpeg" ContentType="image/jpeg"/>
  <Override PartName="/ppt/media/image8.png" ContentType="image/png"/>
  <Override PartName="/ppt/media/image19.jpeg" ContentType="image/jpeg"/>
  <Override PartName="/ppt/media/wind.wav" ContentType="audio/x-wav"/>
  <Override PartName="/ppt/media/image7.png" ContentType="image/png"/>
  <Override PartName="/ppt/media/image23.jpeg" ContentType="image/jpeg"/>
  <Override PartName="/ppt/media/image18.png" ContentType="image/png"/>
  <Override PartName="/ppt/media/type.wav" ContentType="audio/x-wav"/>
  <Override PartName="/ppt/media/image26.gif" ContentType="image/gif"/>
  <Override PartName="/ppt/media/image6.png" ContentType="image/png"/>
  <Override PartName="/ppt/media/LASER.WAV" ContentType="audio/x-wav"/>
  <Override PartName="/ppt/media/image1.png" ContentType="image/png"/>
  <Override PartName="/ppt/media/WHOOSH.WAV" ContentType="audio/x-wav"/>
  <Override PartName="/ppt/media/image31.png" ContentType="image/png"/>
  <Override PartName="/ppt/media/image27.png" ContentType="image/png"/>
  <Override PartName="/ppt/media/image24.gif" ContentType="image/gif"/>
  <Override PartName="/ppt/media/TYPE.WAV" ContentType="audio/x-wav"/>
  <Override PartName="/ppt/media/image28.png" ContentType="image/png"/>
  <Override PartName="/ppt/media/image30.png" ContentType="image/png"/>
  <Override PartName="/ppt/media/image5.png" ContentType="image/png"/>
  <Override PartName="/ppt/media/bomb.wav" ContentType="audio/x-wav"/>
  <Override PartName="/ppt/media/projctor.wav" ContentType="audio/x-wav"/>
  <Override PartName="/ppt/media/image22.png" ContentType="image/png"/>
  <Override PartName="/ppt/media/image10.png" ContentType="image/png"/>
  <Override PartName="/ppt/media/image3.png" ContentType="image/png"/>
  <Override PartName="/ppt/media/CAMERA.WAV" ContentType="audio/x-wav"/>
  <Override PartName="/ppt/media/image17.jpeg" ContentType="image/jpeg"/>
  <Override PartName="/ppt/media/image11.png" ContentType="image/png"/>
  <Override PartName="/ppt/media/image9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673-8E9F-4AE2-A301-5EE808AB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F4F-BADE-428C-BD0F-FA7D977F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1905F-FA9E-403E-A0EE-BBACCDA8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F8D4-C278-498F-A8F0-A5EC7B9E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9B06D-D4B6-4397-9FC7-E0B1654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2DE7-A14F-4254-9729-2FFC5DF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9A51B-D330-4D4C-B489-2F705BA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623B-9DB2-4E18-A13E-D54361F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C2E9C-CCD3-430F-977A-A44B48F8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64D6B-CE87-47A0-95BD-14811E3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6F7EA-845B-46F4-82A8-8BA0D0EF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C3376-CA3A-47D1-8907-6B004E2E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C54-6C64-4783-8447-34F617D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BF9B3-79B9-4D2F-8E4D-F2E3368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5FF66-8757-4695-9EF6-A6290806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B2CBC-0569-4A84-A1DE-ED21DDB3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09E7B-D60C-4181-A7D0-26D16DA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7A647-204E-4414-BEC1-AE51DF8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DD3A3-AF55-41CA-8EC6-3D0BA01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176A1-8E13-442A-B5F4-AAF2A65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22EB2-EAD3-4E1E-9F02-82E1169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61163-E88C-4514-86F0-6CE1FD2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15443-039C-4C4B-9650-D200967C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FC0-1BCC-4982-8372-5156EB48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550CF-12EC-4F44-B20F-E5D86BE2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27C00-E95A-4645-B96D-F212B737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05C11-DEDF-485E-A22B-3E8B1B90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2F9B2-36B4-4AE2-A914-A5F2F69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616F-45BF-43E0-B6EF-6F36176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2CCF7-7119-4E61-B570-4845DD1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42BD-6117-48F7-8E82-0D484075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93DBC-C2C9-47EE-A5A2-7C683A3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0273-E151-4803-800F-E4D9514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FE1F1-C34F-4E9E-B95F-B891A5D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83A7-6514-4AF1-B233-4088B22E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A955-B42E-4523-8BC1-D7C5A56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C42A8-0B64-4517-AF04-256495C7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C481C-6209-4D5A-9366-EB8BE1E7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51BFE-C2A0-4EA4-B77A-30FEF0BA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07E10-E08B-4D44-A28B-AD51DA9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E000-67DE-4CCF-99CF-2F80041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4DE60-AF99-4F6E-9B9D-4E819E1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8E8F8-37AE-42EB-908B-31A1512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1953D-69CA-434F-B92E-3833D87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C11E8-EA05-45E0-B3C7-56D0635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49F-D924-4594-838A-88BDD00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198FF-72F8-4C77-8CBF-CE7673C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3F596-4DE9-46A9-BB2D-D1ADBD9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D00C5-6049-48FF-8721-5565B7C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8DED-F68F-48D9-9028-5F1303D9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45959-C64C-4D4B-8FF6-EEF7DA3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591F-29D3-4577-A05B-FCF4076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13C7-5F5F-463C-AC0D-4A26E60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8DEE-5818-428C-A086-EA6E9FBA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FEC1-3F6A-454D-9345-F64DE2DC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A35F-9366-4DF3-A4DE-7B99AFF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006-A670-467C-9AA1-85F66A8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49E-87D9-483B-8467-8AD42F9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8917-B6A7-4899-9B91-E9DEB09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CCB-EF81-4257-9F0F-65FF6B9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AB4-1579-4B82-9015-E531C8B0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6DF-8EED-4C5F-8F2D-98E6BFC9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A68D-CCB4-4B5D-862C-891AC9F3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CE32-BBCF-4CBD-AD4A-28C295C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65FA-5B78-418C-AA19-983331A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9382-D178-4816-AD54-34F6560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D0D2-7C1A-4346-BC77-F082CA66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026-CCCF-43A0-A571-612B3C0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CEA4-E979-4349-950A-D8991BF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A8F8-FD19-4910-A25F-367CD95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3E29-3B40-4ABF-B7D9-0316323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9023-4EEF-4347-96B0-2843868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5E61-908C-42F8-966B-98B5DB6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85B2-D449-4CA0-A2BB-943D2A75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5E7E-3103-4A59-97C3-38E5705B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A71D-201D-4B7C-88D3-698AC93F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A6C0-EEB6-443D-A244-2311F520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2E9A-BF50-47EA-85CC-41B25200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5BF-CE9B-4746-B3CA-B95D981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D9F4-6F8D-44A3-88D2-EA21016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736D9-3C8D-4534-8724-91F09A5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4A6C-674A-4CDB-A3D8-6738334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24DE-CEBA-4D02-9C9A-090E4F37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2097-128A-4E6A-8281-98622DC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9B06-0AF9-416F-8BF5-B9F82B9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9703-FCB8-4621-9B1A-821DCB92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E473-8C0F-4BCB-B583-51B38B2A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3A93-DC3D-44B0-96A7-AD909C58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8E2B-32B0-4342-920C-696A7D8F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57B-4293-4D66-B8EC-E72A510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B0AF-0470-4AF7-8852-DBC1409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F725-BB6B-421F-93DE-3627000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D128-81AD-4437-B1E3-FF1E3400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65C6-3BDE-4193-8F29-36CE1923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E86C1-D18D-4FC6-9843-C9EE24D9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A1C3-45C9-4EF3-9769-65A0F0B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1DB4-C744-4A86-B4AA-77305E5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02E7-4972-4A91-95D7-3808A33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5C66-D256-4401-B7C6-CBF7DAF7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E0F4-0B0B-43FB-AE77-BC96660F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CAC-312E-47AB-8F9F-BB1FA5A2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AA09-5DFE-4122-AA23-24688426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DF1D-E505-4849-8EE2-68A8C099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0E7DF-8C81-4FAB-82EC-9B4C04D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2D74-5E23-4C3A-92ED-BDCD3A8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26D5-FA39-4312-832E-A1B75CA8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1A25-8C7A-416F-A116-F4CFD60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3890-8138-4D55-A40D-C28324E0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BBE0-C016-4E3D-8F15-7615905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E756-0128-4DB6-8FDC-895A01B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BDE8-95DA-4C15-8C03-E056D76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3EF-E3F8-4F65-BE9A-4A3FC2F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1A94C-AEFE-4E19-B5A9-1F828B3E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6909-718A-444D-804C-554F9E6A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5B56-E961-4BB4-B017-C264C220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9D9A6-928B-481C-A1E7-1C34AA58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BE45-66EF-4963-90FB-6BB493C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7C5AC-840C-409E-8747-367D0B2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F222-FC82-4024-85EF-D4C9515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2BD6-7D9E-49E0-B720-83DA5A7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A9B5-A04E-4FA6-ADD3-E853A8F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5002D-6BB8-46B7-90EB-948296E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F35-33ED-40BD-9E8B-48319A6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BD4AA-6F2F-4D84-9385-BE82106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DDDC-FED6-4621-AB83-6268DD6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58B9-C54D-4719-87E8-89D3394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3B77-DC33-44BF-809A-6C7CB627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E4B0-053F-4FBD-888F-0689A6A4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719AE-6CD4-4960-B30E-89D4328B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1ACB-FCBA-481A-8B67-E410C9B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15714-0D63-43E2-A07C-AC116F7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14CB-E81E-46EE-A173-980AEC8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8F93B-B9D0-4E79-A7F7-9B66B6F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7B3-33FB-4D54-BD66-A715BA7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F21F1-1CAA-4255-9EE8-D9BDC4E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C635-A6D8-4A6C-B45B-6B97C23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0478A-8156-4559-B403-67CE995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89EE-5BE5-4E7E-A8A1-0C9545B2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EF951-C840-44EF-8C2D-BC7AEAC0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8FD9-FCB8-4F8E-91B7-7E3C274B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D135-4E6A-49A7-9C79-CB35BBB3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585F-2DA2-48CE-A8C9-4181DCAF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ED8E4-D80B-4D93-BD7C-3C59AD7F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1E779-4D3E-445F-A82A-EB3C4F0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7136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7136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7136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椭圆 27136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椭圆 27136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椭圆 27136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椭圆 27136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D6B-0F51-4926-96DB-96AC76916A9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71C-D547-49E1-81B6-EECDBAB093F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632-18BE-42F0-AC76-CB72CD697CC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765-0A59-40D0-9FB6-865B82C8669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7238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7238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椭圆 27238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椭圆 27238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椭圆 27238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椭圆 27239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椭圆 27239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F782-6DA1-4F81-9433-F00E5480751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7CC-9A0A-4737-B791-FCF47A0F1DD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3571-9457-4155-8AAB-7C8562A8963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53E8-3C46-42ED-AB35-CEA00AF0F86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FB5-7721-44DA-9289-BF687075673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92EC-20F7-4972-B2F9-BD27DBC9609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411-8D39-4309-80E8-FF9C732CDF7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091-58BE-46EC-8088-6C4C8CC829D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bomb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05080" y="126828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狼牙山五壮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直线连接符 21"/>
          <p:cNvSpPr/>
          <p:nvPr/>
        </p:nvSpPr>
        <p:spPr>
          <a:xfrm>
            <a:off x="1908000" y="1989000"/>
            <a:ext cx="468000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图片 6145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5904000" cy="42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60720" y="150336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400" spc="-1" strike="noStrike">
                <a:solidFill>
                  <a:srgbClr val="9900ff"/>
                </a:solidFill>
                <a:latin typeface="Arial"/>
              </a:rPr>
              <a:t>自读课文，边读边想：这篇文章写了五壮士的什么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28600" y="3580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篇文章写的是五壮士为了人民群众和连队主力，和敌人英勇作战，最后英勇跳崖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7409"/>
          <p:cNvSpPr/>
          <p:nvPr/>
        </p:nvSpPr>
        <p:spPr>
          <a:xfrm>
            <a:off x="533520" y="64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狼牙山五壮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这个题目告诉了我们什么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17410"/>
          <p:cNvSpPr/>
          <p:nvPr/>
        </p:nvSpPr>
        <p:spPr>
          <a:xfrm>
            <a:off x="517680" y="2089080"/>
            <a:ext cx="90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为什么不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狼牙山五战士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》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这个“壮”字是什么意思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文本框 17411"/>
          <p:cNvSpPr/>
          <p:nvPr/>
        </p:nvSpPr>
        <p:spPr>
          <a:xfrm>
            <a:off x="517680" y="3689280"/>
            <a:ext cx="83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d9d8ec"/>
                </a:solidFill>
                <a:latin typeface="Times New Roman"/>
                <a:ea typeface="宋体"/>
              </a:rPr>
              <a:t>、什么样的战士才能称得上壮士呢</a:t>
            </a:r>
            <a:r>
              <a:rPr b="1" lang="en-US" sz="4400" spc="-1" strike="noStrike">
                <a:solidFill>
                  <a:srgbClr val="d9d8e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99"/>
                </a:solidFill>
                <a:latin typeface="Arial"/>
              </a:rPr>
              <a:t>解读“壮举”、“壮言” ，感悟精神</a:t>
            </a:r>
            <a:br>
              <a:rPr sz="3800"/>
            </a:br>
            <a:br>
              <a:rPr sz="3800"/>
            </a:b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一）学习“诱敌上山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920" y="3580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，找一找五位壮士接受任务后具体是怎样做的？把相关的句子画出来，读给大家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04920" y="1294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长马宝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沉着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挥战斗，让敌人走近了，才下命令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狠狠地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副班长葛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振林打一枪就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大吼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hǒu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一声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细小的枪口喷不完他的满腔怒火。战士宋学义扔手榴弹总要把胳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个圈，好使出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浑身的力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胡德林和胡福才这两个小战士把脸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绷得紧紧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全神贯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瞄准敌人射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19458"/>
          <p:cNvSpPr/>
          <p:nvPr/>
        </p:nvSpPr>
        <p:spPr>
          <a:xfrm>
            <a:off x="609480" y="6332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作者是通过什么来刻画这些人物的形象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从这些词语中，你们能感受到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1920" y="30481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日寇的痛恨、一定要完成任务的坚定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带着这样的感受，再来读一读这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二）学习“引上绝路”部分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92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，哪些语句表现了他们的壮举？把相关的语句画出来，并在旁边批注他们是怎样的五位壮士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哪条路呢？为了不让敌人发现群众和连队主力，班长马宝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斩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zhǎn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钉截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了一声“走！”带头向棋盘陀走去。战士们热血沸腾，紧跟在班长后面。他们知道班长要把敌人引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绝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782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1.“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斩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zhǎn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）钉截铁”是什么意思？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920" y="1371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决果断，毫不犹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2.“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绝路”在文中指什么？找到相关的语句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向狼牙山的顶峰棋盘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那儿三面都是悬崖绝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为什么称这条路为绝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24578"/>
          <p:cNvSpPr/>
          <p:nvPr/>
        </p:nvSpPr>
        <p:spPr>
          <a:xfrm>
            <a:off x="250920" y="620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99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狼牙山东西、东南各长１５公里，面积为２２５平方公里。环山共有五坨３６峰，主峰莲花瓣海拔１１０５米，西、北两面均为峭壁悬崖，山势险峻。东、南两面稍缓，各有一条羊肠小路通向主峰，“闫王鼻子”、“小鬼脸”等险要之处非贴壁不可逾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动作按钮: 结束 24579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为什么要选择这条路？这仅仅是把敌人引上绝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，五位壮士把自己也引上了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此时的班长会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能让群众和主力部队安全转移，我宁可牺牲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其他四位战士又会想什么？请联系他们的行为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长做得对，我们要把敌人一网打尽，。牺牲我又怎么样，只要能保证群众和主力部队安全撤退，去再所不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"/>
          <p:cNvSpPr/>
          <p:nvPr/>
        </p:nvSpPr>
        <p:spPr>
          <a:xfrm>
            <a:off x="0" y="22035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字。会写“日寇、进犯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有感情地朗读课文。根据课文内容理清故事情节，再讲讲这个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理解课文内容，了解狼牙山五壮士痛歼敌寇、不畏牺牲的英雄事迹，体会五壮士爱护群众、仇视侵略者、为祖国为人民勇于献身的英雄气概，从中受到思想教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领悟课文点面结合的写法，说说这样写的好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同侧圆角矩形 2"/>
          <p:cNvSpPr/>
          <p:nvPr/>
        </p:nvSpPr>
        <p:spPr>
          <a:xfrm>
            <a:off x="252360" y="981000"/>
            <a:ext cx="200808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71680" cy="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04920" y="1066320"/>
            <a:ext cx="85406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这时，你认为称他们为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壮士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”合适，还是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战士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”合适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他们是怎么样的五位壮士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顾全大局、不怕牺牲、不畏艰险、视死如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带着自己的理解再来读读这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（三）“英勇歼敌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860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请你默读文章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自然段，哪些语句表现出了他们的壮举？请把相关的语句画出来，用四字词语在旁边写出对五位壮士的评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内容占位符 28674" descr="wen1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66" name="矩形 28681"/>
          <p:cNvSpPr/>
          <p:nvPr/>
        </p:nvSpPr>
        <p:spPr>
          <a:xfrm>
            <a:off x="539640" y="1341360"/>
            <a:ext cx="360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顶峰歼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29699"/>
          <p:cNvSpPr/>
          <p:nvPr/>
        </p:nvSpPr>
        <p:spPr>
          <a:xfrm>
            <a:off x="395280" y="3357720"/>
            <a:ext cx="8305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他刚要拧开盖子，马宝玉抢前一步，夺过手榴弹插在腰间，猛地举起一块磨盘大的石头，大声喊道：“同志们！用石头砸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文本框 28680"/>
          <p:cNvSpPr/>
          <p:nvPr/>
        </p:nvSpPr>
        <p:spPr>
          <a:xfrm>
            <a:off x="5364000" y="4292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28678"/>
          <p:cNvSpPr/>
          <p:nvPr/>
        </p:nvSpPr>
        <p:spPr>
          <a:xfrm>
            <a:off x="4067280" y="37162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文本框 28677"/>
          <p:cNvSpPr/>
          <p:nvPr/>
        </p:nvSpPr>
        <p:spPr>
          <a:xfrm>
            <a:off x="1692360" y="378936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文本框 28679"/>
          <p:cNvSpPr/>
          <p:nvPr/>
        </p:nvSpPr>
        <p:spPr>
          <a:xfrm>
            <a:off x="7257960" y="378936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文本框 28676"/>
          <p:cNvSpPr/>
          <p:nvPr/>
        </p:nvSpPr>
        <p:spPr>
          <a:xfrm>
            <a:off x="7451640" y="3284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内容占位符 29698" descr="wen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74" name="文本框 29699"/>
          <p:cNvSpPr/>
          <p:nvPr/>
        </p:nvSpPr>
        <p:spPr>
          <a:xfrm>
            <a:off x="609480" y="1751040"/>
            <a:ext cx="7775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顿时，石头像雹子一样，带着五位壮士的决心，带着中国人民的仇恨，向敌人头上砸去。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文本框 29700"/>
          <p:cNvSpPr/>
          <p:nvPr/>
        </p:nvSpPr>
        <p:spPr>
          <a:xfrm>
            <a:off x="468360" y="3645000"/>
            <a:ext cx="83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把石头比作“雹子”说明石头砸下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， 非常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。这句话充分体现出五壮士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的决心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 u="sng">
                <a:solidFill>
                  <a:srgbClr val="00cc00"/>
                </a:solidFill>
                <a:uFillTx/>
                <a:latin typeface="黑体"/>
                <a:ea typeface="黑体"/>
              </a:rPr>
              <a:t>                                  </a:t>
            </a: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的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圆角矩形 29701"/>
          <p:cNvSpPr/>
          <p:nvPr/>
        </p:nvSpPr>
        <p:spPr>
          <a:xfrm>
            <a:off x="1619280" y="4221000"/>
            <a:ext cx="1009800" cy="432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迅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圆角矩形 29702"/>
          <p:cNvSpPr/>
          <p:nvPr/>
        </p:nvSpPr>
        <p:spPr>
          <a:xfrm>
            <a:off x="5940360" y="4221000"/>
            <a:ext cx="1009800" cy="432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圆角矩形 29703"/>
          <p:cNvSpPr/>
          <p:nvPr/>
        </p:nvSpPr>
        <p:spPr>
          <a:xfrm>
            <a:off x="4788000" y="465300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英勇杀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圆角矩形 29704"/>
          <p:cNvSpPr/>
          <p:nvPr/>
        </p:nvSpPr>
        <p:spPr>
          <a:xfrm>
            <a:off x="2556000" y="5229360"/>
            <a:ext cx="1908000" cy="576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敌人血战到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29705"/>
          <p:cNvSpPr/>
          <p:nvPr/>
        </p:nvSpPr>
        <p:spPr>
          <a:xfrm>
            <a:off x="250920" y="981000"/>
            <a:ext cx="355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顶峰歼敌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（四）学习“跳下悬崖”部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044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他们跳下悬崖时，他们的口号响彻天空，他们豪迈的声音在山谷里回荡。这是怎样的声音？大家齐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英雄的中国人民坚强不屈的声音！这声音惊天动地，气壮山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内容占位符 31745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68360" y="2852640"/>
            <a:ext cx="8136000" cy="37450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1206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五位壮士屹立在狼牙山顶峰，</a:t>
            </a:r>
            <a:r>
              <a:rPr b="1" lang="zh-CN" sz="3000" spc="-1" strike="noStrike" u="sng">
                <a:solidFill>
                  <a:srgbClr val="cc0099"/>
                </a:solidFill>
                <a:uFillTx/>
                <a:latin typeface="Arial"/>
              </a:rPr>
              <a:t>眺望</a:t>
            </a:r>
            <a:r>
              <a:rPr b="1" lang="zh-CN" sz="3000" spc="-1" strike="noStrike" u="sng">
                <a:solidFill>
                  <a:srgbClr val="009900"/>
                </a:solidFill>
                <a:uFillTx/>
                <a:latin typeface="Arial"/>
              </a:rPr>
              <a:t>（望望）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着群众和部队主力远去的方向。他们回头望望还在向上爬的敌人，脸上露出胜利的喜悦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内容占位符 33794" descr="wen3"/>
          <p:cNvPicPr/>
          <p:nvPr/>
        </p:nvPicPr>
        <p:blipFill>
          <a:blip r:embed="rId1"/>
          <a:stretch/>
        </p:blipFill>
        <p:spPr>
          <a:xfrm>
            <a:off x="179280" y="836640"/>
            <a:ext cx="8791560" cy="554508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33795" descr="image007"/>
          <p:cNvPicPr/>
          <p:nvPr/>
        </p:nvPicPr>
        <p:blipFill>
          <a:blip r:embed="rId2"/>
          <a:stretch/>
        </p:blipFill>
        <p:spPr>
          <a:xfrm>
            <a:off x="0" y="4076640"/>
            <a:ext cx="8820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28600" y="762120"/>
            <a:ext cx="854064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壮士们跳崖部分，根据所给的内容，找出答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战士们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，相继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。狼牙山上响起了他们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“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”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“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”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　　这是英雄的中国人民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的声音！这声音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！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35841" descr="b114"/>
          <p:cNvPicPr/>
          <p:nvPr/>
        </p:nvPicPr>
        <p:blipFill>
          <a:blip r:embed="rId1"/>
          <a:stretch/>
        </p:blipFill>
        <p:spPr>
          <a:xfrm>
            <a:off x="179280" y="692280"/>
            <a:ext cx="8748720" cy="5976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35842" descr="狼牙山1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1828800" y="914400"/>
            <a:ext cx="5638680" cy="5562720"/>
          </a:xfrm>
          <a:prstGeom prst="rect">
            <a:avLst/>
          </a:prstGeom>
          <a:ln w="0">
            <a:noFill/>
          </a:ln>
        </p:spPr>
      </p:pic>
      <p:sp>
        <p:nvSpPr>
          <p:cNvPr id="690" name="文本框 35843"/>
          <p:cNvSpPr/>
          <p:nvPr/>
        </p:nvSpPr>
        <p:spPr>
          <a:xfrm>
            <a:off x="7010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接受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文本框 35844"/>
          <p:cNvSpPr/>
          <p:nvPr/>
        </p:nvSpPr>
        <p:spPr>
          <a:xfrm>
            <a:off x="5943600" y="3701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诱敌上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文本框 35845"/>
          <p:cNvSpPr/>
          <p:nvPr/>
        </p:nvSpPr>
        <p:spPr>
          <a:xfrm>
            <a:off x="1600200" y="1066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顶峰歼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35846"/>
          <p:cNvSpPr/>
          <p:nvPr/>
        </p:nvSpPr>
        <p:spPr>
          <a:xfrm>
            <a:off x="40384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引上绝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文本框 35847"/>
          <p:cNvSpPr/>
          <p:nvPr/>
        </p:nvSpPr>
        <p:spPr>
          <a:xfrm>
            <a:off x="65520" y="28195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矩形 35848"/>
          <p:cNvSpPr txBox="1"/>
          <p:nvPr/>
        </p:nvSpPr>
        <p:spPr>
          <a:xfrm>
            <a:off x="2900520" y="228600"/>
            <a:ext cx="33429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狼牙山五壮士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6" name="矩形 35849"/>
          <p:cNvSpPr/>
          <p:nvPr/>
        </p:nvSpPr>
        <p:spPr>
          <a:xfrm>
            <a:off x="7491600" y="44956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矩形 35850"/>
          <p:cNvSpPr/>
          <p:nvPr/>
        </p:nvSpPr>
        <p:spPr>
          <a:xfrm>
            <a:off x="5697720" y="2666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矩形 35851"/>
          <p:cNvSpPr/>
          <p:nvPr/>
        </p:nvSpPr>
        <p:spPr>
          <a:xfrm>
            <a:off x="820800" y="1523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矩形 35852"/>
          <p:cNvSpPr/>
          <p:nvPr/>
        </p:nvSpPr>
        <p:spPr>
          <a:xfrm>
            <a:off x="3944880" y="121932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文本占位符 36866" descr="20051113213254649[1]"/>
          <p:cNvPicPr/>
          <p:nvPr/>
        </p:nvPicPr>
        <p:blipFill>
          <a:blip r:embed="rId1"/>
          <a:stretch/>
        </p:blipFill>
        <p:spPr>
          <a:xfrm>
            <a:off x="396720" y="693720"/>
            <a:ext cx="8496360" cy="6191280"/>
          </a:xfrm>
          <a:prstGeom prst="rect">
            <a:avLst/>
          </a:prstGeom>
          <a:ln w="0">
            <a:noFill/>
          </a:ln>
        </p:spPr>
      </p:pic>
      <p:sp>
        <p:nvSpPr>
          <p:cNvPr id="701" name="文本框 36867"/>
          <p:cNvSpPr/>
          <p:nvPr/>
        </p:nvSpPr>
        <p:spPr>
          <a:xfrm>
            <a:off x="685800" y="1295280"/>
            <a:ext cx="548640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是在什么情况下接受掩护任务的？这说明了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2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是怎样诱敌上山，英勇杀敌的？表观了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准备转移时，摆在五壮士面前的是两条什么样的路？他们选择了哪一条？为什么？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黑体"/>
                <a:ea typeface="黑体"/>
              </a:rPr>
              <a:t>4.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五壮士胜利完成任务后，是怎样高喊着口号与英勇跳崖的？这表现了什么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矩形 36868"/>
          <p:cNvSpPr txBox="1"/>
          <p:nvPr/>
        </p:nvSpPr>
        <p:spPr>
          <a:xfrm>
            <a:off x="6800760" y="1447920"/>
            <a:ext cx="514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3" name="矩形 36869"/>
          <p:cNvSpPr txBox="1"/>
          <p:nvPr/>
        </p:nvSpPr>
        <p:spPr>
          <a:xfrm>
            <a:off x="7334280" y="1447920"/>
            <a:ext cx="514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志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4" name="矩形 36870"/>
          <p:cNvSpPr txBox="1"/>
          <p:nvPr/>
        </p:nvSpPr>
        <p:spPr>
          <a:xfrm>
            <a:off x="6800760" y="230508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5" name="矩形 36871"/>
          <p:cNvSpPr txBox="1"/>
          <p:nvPr/>
        </p:nvSpPr>
        <p:spPr>
          <a:xfrm>
            <a:off x="7315200" y="230508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行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6" name="矩形 36872"/>
          <p:cNvSpPr txBox="1"/>
          <p:nvPr/>
        </p:nvSpPr>
        <p:spPr>
          <a:xfrm>
            <a:off x="6781680" y="337176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7" name="矩形 36873"/>
          <p:cNvSpPr txBox="1"/>
          <p:nvPr/>
        </p:nvSpPr>
        <p:spPr>
          <a:xfrm>
            <a:off x="7315200" y="3352680"/>
            <a:ext cx="5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举</a:t>
            </a:r>
            <a:endParaRPr b="1" lang="en-US" sz="44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8" name="矩形 36874"/>
          <p:cNvSpPr txBox="1"/>
          <p:nvPr/>
        </p:nvSpPr>
        <p:spPr>
          <a:xfrm>
            <a:off x="6781680" y="457200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壮</a:t>
            </a:r>
            <a:endParaRPr b="1" lang="en-US" sz="4000" spc="1" strike="noStrike">
              <a:ln w="19080">
                <a:solidFill>
                  <a:srgbClr val="99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9" name="矩形 36875"/>
          <p:cNvSpPr txBox="1"/>
          <p:nvPr/>
        </p:nvSpPr>
        <p:spPr>
          <a:xfrm>
            <a:off x="7334280" y="4514760"/>
            <a:ext cx="514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烈</a:t>
            </a:r>
            <a:endParaRPr b="1" lang="en-US" sz="4000" spc="1" strike="noStrike">
              <a:ln w="19080">
                <a:solidFill>
                  <a:srgbClr val="3366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1266"/>
          <p:cNvSpPr/>
          <p:nvPr/>
        </p:nvSpPr>
        <p:spPr>
          <a:xfrm>
            <a:off x="304920" y="202896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，日军对晋察冀边区北县区进行了三个月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秋季大扫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仅三个月的时间，日军残杀我人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67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烧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77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间，抢掠与焚毁粮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3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斤，抢走耕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余头，毁农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2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余件，使北岳人民受到了严重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矩形 11267"/>
          <p:cNvSpPr txBox="1"/>
          <p:nvPr/>
        </p:nvSpPr>
        <p:spPr>
          <a:xfrm>
            <a:off x="395280" y="78264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历史背景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514" name="组合 11268"/>
          <p:cNvGrpSpPr/>
          <p:nvPr/>
        </p:nvGrpSpPr>
        <p:grpSpPr>
          <a:xfrm>
            <a:off x="7167240" y="255960"/>
            <a:ext cx="2054880" cy="1641240"/>
            <a:chOff x="7167240" y="255960"/>
            <a:chExt cx="2054880" cy="1641240"/>
          </a:xfrm>
        </p:grpSpPr>
        <p:pic>
          <p:nvPicPr>
            <p:cNvPr id="515" name="图片 11269" descr="4012761_124732912370_2"/>
            <p:cNvPicPr/>
            <p:nvPr/>
          </p:nvPicPr>
          <p:blipFill>
            <a:blip r:embed="rId1"/>
            <a:stretch/>
          </p:blipFill>
          <p:spPr>
            <a:xfrm rot="2729400">
              <a:off x="7854480" y="551880"/>
              <a:ext cx="12193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图片 11270" descr="4012761_124732912370_2"/>
            <p:cNvPicPr/>
            <p:nvPr/>
          </p:nvPicPr>
          <p:blipFill>
            <a:blip r:embed="rId2"/>
            <a:stretch/>
          </p:blipFill>
          <p:spPr>
            <a:xfrm rot="5755200">
              <a:off x="7065000" y="570240"/>
              <a:ext cx="1447560" cy="110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om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37889" descr=""/>
          <p:cNvPicPr/>
          <p:nvPr/>
        </p:nvPicPr>
        <p:blipFill>
          <a:blip r:embed="rId1"/>
          <a:stretch/>
        </p:blipFill>
        <p:spPr>
          <a:xfrm>
            <a:off x="228600" y="684360"/>
            <a:ext cx="3821040" cy="403992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37890" descr="3683944495189072567"/>
          <p:cNvPicPr/>
          <p:nvPr/>
        </p:nvPicPr>
        <p:blipFill>
          <a:blip r:embed="rId2"/>
          <a:stretch/>
        </p:blipFill>
        <p:spPr>
          <a:xfrm>
            <a:off x="4267080" y="692280"/>
            <a:ext cx="4724640" cy="4108320"/>
          </a:xfrm>
          <a:prstGeom prst="rect">
            <a:avLst/>
          </a:prstGeom>
          <a:ln w="0">
            <a:noFill/>
          </a:ln>
        </p:spPr>
      </p:pic>
      <p:sp>
        <p:nvSpPr>
          <p:cNvPr id="712" name="文本框 37891"/>
          <p:cNvSpPr/>
          <p:nvPr/>
        </p:nvSpPr>
        <p:spPr>
          <a:xfrm>
            <a:off x="228600" y="49989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面对着英勇跳崖的五位勇士，面对着巍然屹立的英雄纪念塔，今天的你想说些什么？ 请动笔写下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37892"/>
          <p:cNvSpPr/>
          <p:nvPr/>
        </p:nvSpPr>
        <p:spPr>
          <a:xfrm>
            <a:off x="4479840" y="3011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图片 37893" descr="12O26422H30-20293U"/>
          <p:cNvPicPr/>
          <p:nvPr/>
        </p:nvPicPr>
        <p:blipFill>
          <a:blip r:embed="rId3"/>
          <a:stretch/>
        </p:blipFill>
        <p:spPr>
          <a:xfrm>
            <a:off x="807732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文本框 38913"/>
          <p:cNvSpPr/>
          <p:nvPr/>
        </p:nvSpPr>
        <p:spPr>
          <a:xfrm>
            <a:off x="1902960" y="525600"/>
            <a:ext cx="475236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如果穿越时空，回到五壮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以身殉国的那个年代。听到他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壮烈牺牲的消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五壮士白发苍苍的老娘会含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眼泪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盼夫归家而望眼欲穿的妻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他们年幼的孩子会说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你可以选择一个角色练习说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也可以选择多个角色练习说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课文学到这里，你们认为他们是怎样的五位壮士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8600" y="23623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不畏艰险、大义凛然、不怕牺牲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仅仅是赞颂我们认识的这五位壮士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赞颂的是许多像他们一样视死如归、具有英雄气概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20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20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图片 43009" descr="00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3010" descr="_notes011"/>
          <p:cNvPicPr/>
          <p:nvPr/>
        </p:nvPicPr>
        <p:blipFill>
          <a:blip r:embed="rId2"/>
          <a:stretch/>
        </p:blipFill>
        <p:spPr>
          <a:xfrm>
            <a:off x="179280" y="765000"/>
            <a:ext cx="3527640" cy="213696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3011" descr="007"/>
          <p:cNvPicPr/>
          <p:nvPr/>
        </p:nvPicPr>
        <p:blipFill>
          <a:blip r:embed="rId3"/>
          <a:stretch/>
        </p:blipFill>
        <p:spPr>
          <a:xfrm>
            <a:off x="179280" y="3616200"/>
            <a:ext cx="3527640" cy="2837160"/>
          </a:xfrm>
          <a:prstGeom prst="rect">
            <a:avLst/>
          </a:prstGeom>
          <a:ln w="0">
            <a:noFill/>
          </a:ln>
        </p:spPr>
      </p:pic>
      <p:sp>
        <p:nvSpPr>
          <p:cNvPr id="721" name="文本框 43012"/>
          <p:cNvSpPr/>
          <p:nvPr/>
        </p:nvSpPr>
        <p:spPr>
          <a:xfrm>
            <a:off x="3851280" y="1308240"/>
            <a:ext cx="50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今年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，是狼牙山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壮士跳崖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6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周年纪念日。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6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前，著名的狼牙山战斗打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晋察冀军区一分区一团七连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马宝玉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葛振林、宋学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胡德林、胡福才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了掩护群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主力撤退，毅然决然地把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人引上了狼牙山绝路小莲花峰。子弹打光了，石头用完了，他们将枪枝在岩石上摔碎，纵身跳下了万丈悬崖。三人以身殉国，两人生还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4403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73408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44034"/>
          <p:cNvSpPr/>
          <p:nvPr/>
        </p:nvSpPr>
        <p:spPr>
          <a:xfrm>
            <a:off x="1066680" y="12193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在五勇士坚守的棋盘坨主峰顶建立了纪念塔，塔为五角形，共五层，高十余米，塔真正面有聂荣臻手书的“狼牙山五勇士纪念塔”九个红色大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文本框 45057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d9d8ec"/>
                </a:solidFill>
                <a:latin typeface="Times New Roman"/>
                <a:ea typeface="宋体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动作按钮: 结束 45058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文本占位符 47106" descr="20051113213254649[1]"/>
          <p:cNvPicPr/>
          <p:nvPr/>
        </p:nvPicPr>
        <p:blipFill>
          <a:blip r:embed="rId1"/>
          <a:stretch/>
        </p:blipFill>
        <p:spPr>
          <a:xfrm>
            <a:off x="395280" y="765000"/>
            <a:ext cx="8388360" cy="6093000"/>
          </a:xfrm>
          <a:prstGeom prst="rect">
            <a:avLst/>
          </a:prstGeom>
          <a:ln w="0">
            <a:noFill/>
          </a:ln>
        </p:spPr>
      </p:pic>
      <p:sp>
        <p:nvSpPr>
          <p:cNvPr id="727" name="矩形 47107"/>
          <p:cNvSpPr txBox="1"/>
          <p:nvPr/>
        </p:nvSpPr>
        <p:spPr>
          <a:xfrm>
            <a:off x="380880" y="2590920"/>
            <a:ext cx="8382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不用“战士”而用“壮士”？</a:t>
            </a:r>
            <a:endParaRPr b="1" lang="en-US" sz="2400" spc="1" strike="noStrike">
              <a:ln w="19080">
                <a:solidFill>
                  <a:srgbClr val="ffff99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8" name="矩形 47108"/>
          <p:cNvSpPr txBox="1"/>
          <p:nvPr/>
        </p:nvSpPr>
        <p:spPr>
          <a:xfrm>
            <a:off x="3124080" y="4267080"/>
            <a:ext cx="6172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五壮士“壮”在哪里呢 ？ </a:t>
            </a:r>
            <a:endParaRPr b="1" lang="en-US" sz="2400" spc="1" strike="noStrike">
              <a:ln w="19080">
                <a:solidFill>
                  <a:srgbClr val="ffff99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29" name="图片 47109" descr="0016"/>
          <p:cNvPicPr/>
          <p:nvPr/>
        </p:nvPicPr>
        <p:blipFill>
          <a:blip r:embed="rId2"/>
          <a:stretch/>
        </p:blipFill>
        <p:spPr>
          <a:xfrm>
            <a:off x="704880" y="4419720"/>
            <a:ext cx="81900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文本框 48129"/>
          <p:cNvSpPr/>
          <p:nvPr/>
        </p:nvSpPr>
        <p:spPr>
          <a:xfrm>
            <a:off x="324000" y="836640"/>
            <a:ext cx="83865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英雄跳崖后，被树枝挂住，幸免于难，但伤得很重。葛振林苏醒后挣扎着爬上来，又帮助不远处的宋学义爬上崖头，他二人拄着棍子往棋盘陀古庙方向挪着。我辨清他们是两个负伤的八路军战士，所以就上前扶着他们。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走走停停，到了棋盘石山腰的古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天，时近中午，李元忠老道回到庙里，听我介绍两位是跳崖受伤的，立即双手合起来深施一礼，说他昨日躲在崖缝，正好看到八路军抗击敌人，舍身跳崖的壮举，还看见日本鬼子在八路军跳崖处列队行礼，说明被八路军的精神折服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选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党史文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期 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狼牙山不朽的证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访“五壮士”幸存者的救援人余药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矩形 48130"/>
          <p:cNvSpPr/>
          <p:nvPr/>
        </p:nvSpPr>
        <p:spPr>
          <a:xfrm>
            <a:off x="990720" y="4572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动作按钮: 结束 48131"/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文本框 17409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17410"/>
          <p:cNvSpPr/>
          <p:nvPr/>
        </p:nvSpPr>
        <p:spPr>
          <a:xfrm>
            <a:off x="395280" y="1006560"/>
            <a:ext cx="835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拓展阅读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来自敌人的折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五位壮士英勇跳崖之后，爬上崖头的日军，面对五勇士跳崖处，随着指挥官的口令整整齐齐地排成几列，恭恭敬敬地三鞠躬。这群“皇军武士”，终于发现和他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人激战一天的八路军，仅仅只有五人，他们震惊之余，完全被我中华勇士捐躯殉国的牺牲精神折服了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50177"/>
          <p:cNvSpPr/>
          <p:nvPr/>
        </p:nvSpPr>
        <p:spPr>
          <a:xfrm>
            <a:off x="2814120" y="981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风萧萧兮易水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壮士一去兮不复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图片 49153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752472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18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19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0" name="矩形 14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433440" y="16286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k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图片 19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1" descr=""/>
          <p:cNvPicPr/>
          <p:nvPr/>
        </p:nvPicPr>
        <p:blipFill>
          <a:blip r:embed="rId4"/>
          <a:stretch/>
        </p:blipFill>
        <p:spPr>
          <a:xfrm>
            <a:off x="3305160" y="2205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6"/>
          <p:cNvSpPr/>
          <p:nvPr/>
        </p:nvSpPr>
        <p:spPr>
          <a:xfrm>
            <a:off x="3381480" y="227952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冀（晋察冀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23"/>
          <p:cNvSpPr/>
          <p:nvPr/>
        </p:nvSpPr>
        <p:spPr>
          <a:xfrm>
            <a:off x="3419640" y="1628640"/>
            <a:ext cx="20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文本框 6"/>
          <p:cNvSpPr/>
          <p:nvPr/>
        </p:nvSpPr>
        <p:spPr>
          <a:xfrm>
            <a:off x="87264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寇 （日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324000" y="32702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图片 19" descr=""/>
          <p:cNvPicPr/>
          <p:nvPr/>
        </p:nvPicPr>
        <p:blipFill>
          <a:blip r:embed="rId5"/>
          <a:stretch/>
        </p:blipFill>
        <p:spPr>
          <a:xfrm>
            <a:off x="318960" y="401472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6"/>
          <p:cNvSpPr/>
          <p:nvPr/>
        </p:nvSpPr>
        <p:spPr>
          <a:xfrm>
            <a:off x="672480" y="40863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副（副班长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图片 21" descr=""/>
          <p:cNvPicPr/>
          <p:nvPr/>
        </p:nvPicPr>
        <p:blipFill>
          <a:blip r:embed="rId6"/>
          <a:stretch/>
        </p:blipFill>
        <p:spPr>
          <a:xfrm>
            <a:off x="5969160" y="39988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6"/>
          <p:cNvSpPr/>
          <p:nvPr/>
        </p:nvSpPr>
        <p:spPr>
          <a:xfrm>
            <a:off x="6641640" y="4048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贯（全神贯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23"/>
          <p:cNvSpPr/>
          <p:nvPr/>
        </p:nvSpPr>
        <p:spPr>
          <a:xfrm>
            <a:off x="5940360" y="314172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gu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6072120" y="15573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pī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图片 19" descr=""/>
          <p:cNvPicPr/>
          <p:nvPr/>
        </p:nvPicPr>
        <p:blipFill>
          <a:blip r:embed="rId7"/>
          <a:stretch/>
        </p:blipFill>
        <p:spPr>
          <a:xfrm>
            <a:off x="6006960" y="2133720"/>
            <a:ext cx="841680" cy="83952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6"/>
          <p:cNvSpPr/>
          <p:nvPr/>
        </p:nvSpPr>
        <p:spPr>
          <a:xfrm>
            <a:off x="6239160" y="22050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批 （大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3348000" y="32227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li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图片 19" descr=""/>
          <p:cNvPicPr/>
          <p:nvPr/>
        </p:nvPicPr>
        <p:blipFill>
          <a:blip r:embed="rId8"/>
          <a:stretch/>
        </p:blipFill>
        <p:spPr>
          <a:xfrm>
            <a:off x="3276720" y="40384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6"/>
          <p:cNvSpPr/>
          <p:nvPr/>
        </p:nvSpPr>
        <p:spPr>
          <a:xfrm>
            <a:off x="3911040" y="411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榴（手榴弹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33440" y="510696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图片 19" descr=""/>
          <p:cNvPicPr/>
          <p:nvPr/>
        </p:nvPicPr>
        <p:blipFill>
          <a:blip r:embed="rId9"/>
          <a:stretch/>
        </p:blipFill>
        <p:spPr>
          <a:xfrm>
            <a:off x="324000" y="568332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1" descr=""/>
          <p:cNvPicPr/>
          <p:nvPr/>
        </p:nvPicPr>
        <p:blipFill>
          <a:blip r:embed="rId10"/>
          <a:stretch/>
        </p:blipFill>
        <p:spPr>
          <a:xfrm>
            <a:off x="3305160" y="568332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6"/>
          <p:cNvSpPr/>
          <p:nvPr/>
        </p:nvSpPr>
        <p:spPr>
          <a:xfrm>
            <a:off x="3381480" y="575784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悬（悬崖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23"/>
          <p:cNvSpPr/>
          <p:nvPr/>
        </p:nvSpPr>
        <p:spPr>
          <a:xfrm>
            <a:off x="3276720" y="510696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x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6"/>
          <p:cNvSpPr/>
          <p:nvPr/>
        </p:nvSpPr>
        <p:spPr>
          <a:xfrm>
            <a:off x="987480" y="5754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棋（棋盘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6006960" y="50356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图片 19" descr=""/>
          <p:cNvPicPr/>
          <p:nvPr/>
        </p:nvPicPr>
        <p:blipFill>
          <a:blip r:embed="rId11"/>
          <a:stretch/>
        </p:blipFill>
        <p:spPr>
          <a:xfrm>
            <a:off x="5942160" y="56116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7" name="文本框 6"/>
          <p:cNvSpPr/>
          <p:nvPr/>
        </p:nvSpPr>
        <p:spPr>
          <a:xfrm>
            <a:off x="6202440" y="56833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沸（沸腾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51201"/>
          <p:cNvSpPr/>
          <p:nvPr/>
        </p:nvSpPr>
        <p:spPr>
          <a:xfrm>
            <a:off x="1295280" y="12952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8e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d9d8ec"/>
                </a:solidFill>
                <a:latin typeface="Times New Roman"/>
                <a:ea typeface="宋体"/>
              </a:rPr>
              <a:t>中国人民为有这样的英雄儿女而骄傲，巍巍狼牙山，滔滔易水河，是中华民族不可战胜的见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动作按钮: 结束 51202"/>
          <p:cNvSpPr/>
          <p:nvPr/>
        </p:nvSpPr>
        <p:spPr>
          <a:xfrm>
            <a:off x="7238880" y="6248520"/>
            <a:ext cx="1576440" cy="60948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5849" h="21600">
                <a:moveTo>
                  <a:pt x="0" y="0"/>
                </a:moveTo>
                <a:lnTo>
                  <a:pt x="55849" y="0"/>
                </a:lnTo>
                <a:lnTo>
                  <a:pt x="55849" y="21600"/>
                </a:lnTo>
                <a:lnTo>
                  <a:pt x="0" y="21600"/>
                </a:lnTo>
                <a:close/>
              </a:path>
              <a:path fill="lightenLess" w="55849" h="21600">
                <a:moveTo>
                  <a:pt x="0" y="0"/>
                </a:moveTo>
                <a:lnTo>
                  <a:pt x="55849" y="0"/>
                </a:lnTo>
                <a:lnTo>
                  <a:pt x="54449" y="1400"/>
                </a:lnTo>
                <a:lnTo>
                  <a:pt x="1400" y="1400"/>
                </a:lnTo>
                <a:close/>
              </a:path>
              <a:path fill="darken" w="55849" h="21600">
                <a:moveTo>
                  <a:pt x="55849" y="0"/>
                </a:moveTo>
                <a:lnTo>
                  <a:pt x="55849" y="21600"/>
                </a:lnTo>
                <a:lnTo>
                  <a:pt x="54449" y="20200"/>
                </a:lnTo>
                <a:lnTo>
                  <a:pt x="54449" y="1400"/>
                </a:lnTo>
                <a:close/>
              </a:path>
              <a:path fill="darkenLess" w="55849" h="21600">
                <a:moveTo>
                  <a:pt x="5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49" y="20200"/>
                </a:lnTo>
                <a:close/>
              </a:path>
              <a:path fill="lighten" w="5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49" h="21600">
                <a:moveTo>
                  <a:pt x="31423" y="10800"/>
                </a:moveTo>
                <a:lnTo>
                  <a:pt x="20918" y="17806"/>
                </a:lnTo>
                <a:lnTo>
                  <a:pt x="20918" y="3794"/>
                </a:lnTo>
                <a:close/>
              </a:path>
              <a:path fill="darken" w="55849" h="21600">
                <a:moveTo>
                  <a:pt x="33269" y="3794"/>
                </a:moveTo>
                <a:lnTo>
                  <a:pt x="33269" y="17806"/>
                </a:lnTo>
                <a:lnTo>
                  <a:pt x="34931" y="17806"/>
                </a:lnTo>
                <a:lnTo>
                  <a:pt x="34931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5" descr=""/>
          <p:cNvPicPr/>
          <p:nvPr/>
        </p:nvPicPr>
        <p:blipFill>
          <a:blip r:embed="rId1"/>
          <a:stretch/>
        </p:blipFill>
        <p:spPr>
          <a:xfrm>
            <a:off x="36360" y="765000"/>
            <a:ext cx="2019600" cy="533520"/>
          </a:xfrm>
          <a:prstGeom prst="rect">
            <a:avLst/>
          </a:prstGeom>
          <a:ln w="0">
            <a:noFill/>
          </a:ln>
        </p:spPr>
      </p:pic>
      <p:sp>
        <p:nvSpPr>
          <p:cNvPr id="740" name="直线连接符 21"/>
          <p:cNvSpPr/>
          <p:nvPr/>
        </p:nvSpPr>
        <p:spPr>
          <a:xfrm flipV="1">
            <a:off x="-36360" y="13428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439560" y="1881360"/>
            <a:ext cx="8164800" cy="30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直线连接符 21"/>
          <p:cNvSpPr/>
          <p:nvPr/>
        </p:nvSpPr>
        <p:spPr>
          <a:xfrm flipV="1">
            <a:off x="324000" y="1627200"/>
            <a:ext cx="2073240" cy="936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7" descr=""/>
          <p:cNvPicPr/>
          <p:nvPr/>
        </p:nvPicPr>
        <p:blipFill>
          <a:blip r:embed="rId1"/>
          <a:stretch/>
        </p:blipFill>
        <p:spPr>
          <a:xfrm>
            <a:off x="325440" y="1052640"/>
            <a:ext cx="2019240" cy="5331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539640" y="27097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矩形 4"/>
          <p:cNvSpPr/>
          <p:nvPr/>
        </p:nvSpPr>
        <p:spPr>
          <a:xfrm>
            <a:off x="36360" y="19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矩形 2"/>
          <p:cNvSpPr/>
          <p:nvPr/>
        </p:nvSpPr>
        <p:spPr>
          <a:xfrm>
            <a:off x="539640" y="2058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矩形 3"/>
          <p:cNvSpPr/>
          <p:nvPr/>
        </p:nvSpPr>
        <p:spPr>
          <a:xfrm>
            <a:off x="539640" y="20574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2e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2e2e00"/>
                </a:solidFill>
                <a:latin typeface="楷体"/>
                <a:ea typeface="楷体"/>
              </a:rPr>
              <a:t>这篇课文记叙了抗日战争时期，八路军某部七连六班的五个战士，为了掩护群众和连队转移，诱敌上山，英勇杀敌，最后把敌人引上狼牙山顶峰，英勇跳崖的故事，表现了五壮士热爱祖国、热爱人民、仇恨敌人、勇于牺牲的革命精神和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WordArt 6" descr=""/>
          <p:cNvPicPr/>
          <p:nvPr/>
        </p:nvPicPr>
        <p:blipFill>
          <a:blip r:embed="rId1"/>
          <a:stretch/>
        </p:blipFill>
        <p:spPr>
          <a:xfrm>
            <a:off x="1752480" y="2011320"/>
            <a:ext cx="6015240" cy="20718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" descr=""/>
          <p:cNvPicPr/>
          <p:nvPr/>
        </p:nvPicPr>
        <p:blipFill>
          <a:blip r:embed="rId2"/>
          <a:stretch/>
        </p:blipFill>
        <p:spPr>
          <a:xfrm>
            <a:off x="826920" y="3468600"/>
            <a:ext cx="283860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50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矩形 14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3"/>
          <p:cNvSpPr/>
          <p:nvPr/>
        </p:nvSpPr>
        <p:spPr>
          <a:xfrm>
            <a:off x="433440" y="16286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图片 19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1" descr=""/>
          <p:cNvPicPr/>
          <p:nvPr/>
        </p:nvPicPr>
        <p:blipFill>
          <a:blip r:embed="rId4"/>
          <a:stretch/>
        </p:blipFill>
        <p:spPr>
          <a:xfrm>
            <a:off x="3227400" y="2205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6"/>
          <p:cNvSpPr/>
          <p:nvPr/>
        </p:nvSpPr>
        <p:spPr>
          <a:xfrm>
            <a:off x="3243240" y="22795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雹（雹子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23"/>
          <p:cNvSpPr/>
          <p:nvPr/>
        </p:nvSpPr>
        <p:spPr>
          <a:xfrm>
            <a:off x="3203640" y="162864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6"/>
          <p:cNvSpPr/>
          <p:nvPr/>
        </p:nvSpPr>
        <p:spPr>
          <a:xfrm>
            <a:off x="87264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涧 （山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468360" y="32702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图片 19" descr=""/>
          <p:cNvPicPr/>
          <p:nvPr/>
        </p:nvPicPr>
        <p:blipFill>
          <a:blip r:embed="rId5"/>
          <a:stretch/>
        </p:blipFill>
        <p:spPr>
          <a:xfrm>
            <a:off x="318960" y="401472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60" name="文本框 6"/>
          <p:cNvSpPr/>
          <p:nvPr/>
        </p:nvSpPr>
        <p:spPr>
          <a:xfrm>
            <a:off x="706680" y="408636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屹（屹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图片 21" descr=""/>
          <p:cNvPicPr/>
          <p:nvPr/>
        </p:nvPicPr>
        <p:blipFill>
          <a:blip r:embed="rId6"/>
          <a:stretch/>
        </p:blipFill>
        <p:spPr>
          <a:xfrm>
            <a:off x="5891040" y="3998880"/>
            <a:ext cx="841680" cy="84132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6"/>
          <p:cNvSpPr/>
          <p:nvPr/>
        </p:nvSpPr>
        <p:spPr>
          <a:xfrm>
            <a:off x="6527160" y="4048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屈（不屈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23"/>
          <p:cNvSpPr/>
          <p:nvPr/>
        </p:nvSpPr>
        <p:spPr>
          <a:xfrm>
            <a:off x="5850000" y="314172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3"/>
          <p:cNvSpPr/>
          <p:nvPr/>
        </p:nvSpPr>
        <p:spPr>
          <a:xfrm>
            <a:off x="6080040" y="15573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图片 19" descr=""/>
          <p:cNvPicPr/>
          <p:nvPr/>
        </p:nvPicPr>
        <p:blipFill>
          <a:blip r:embed="rId7"/>
          <a:stretch/>
        </p:blipFill>
        <p:spPr>
          <a:xfrm>
            <a:off x="5867280" y="2133720"/>
            <a:ext cx="841320" cy="839520"/>
          </a:xfrm>
          <a:prstGeom prst="rect">
            <a:avLst/>
          </a:prstGeom>
          <a:ln w="0">
            <a:noFill/>
          </a:ln>
        </p:spPr>
      </p:pic>
      <p:sp>
        <p:nvSpPr>
          <p:cNvPr id="566" name="文本框 6"/>
          <p:cNvSpPr/>
          <p:nvPr/>
        </p:nvSpPr>
        <p:spPr>
          <a:xfrm>
            <a:off x="6310800" y="2205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叽（叽里呱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3132000" y="32227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图片 19" descr=""/>
          <p:cNvPicPr/>
          <p:nvPr/>
        </p:nvPicPr>
        <p:blipFill>
          <a:blip r:embed="rId8"/>
          <a:stretch/>
        </p:blipFill>
        <p:spPr>
          <a:xfrm>
            <a:off x="3198960" y="403848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6"/>
          <p:cNvSpPr/>
          <p:nvPr/>
        </p:nvSpPr>
        <p:spPr>
          <a:xfrm>
            <a:off x="3825000" y="411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悦（喜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71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572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3" name="矩形 14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9"/>
          <p:cNvSpPr/>
          <p:nvPr/>
        </p:nvSpPr>
        <p:spPr>
          <a:xfrm>
            <a:off x="291600" y="16304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rì    kòu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"/>
          <p:cNvSpPr/>
          <p:nvPr/>
        </p:nvSpPr>
        <p:spPr>
          <a:xfrm>
            <a:off x="32400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 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20"/>
          <p:cNvSpPr/>
          <p:nvPr/>
        </p:nvSpPr>
        <p:spPr>
          <a:xfrm>
            <a:off x="325440" y="278136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zhuǎn y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79280" y="328608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转 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1763640" y="20638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 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3854520" y="204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游 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1763640" y="27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xiǎn yà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1763640" y="326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险 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7572240" y="38624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dǐng f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108000" y="4365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全   神  贯  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2"/>
          <p:cNvSpPr/>
          <p:nvPr/>
        </p:nvSpPr>
        <p:spPr>
          <a:xfrm>
            <a:off x="-252360" y="393372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   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uán  shén  guàn  zhù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3684600" y="4325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射 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3900600" y="38941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shè  jī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562932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始 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3635280" y="2781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én zhu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2"/>
          <p:cNvSpPr/>
          <p:nvPr/>
        </p:nvSpPr>
        <p:spPr>
          <a:xfrm>
            <a:off x="5651640" y="27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shǒu liú d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3564000" y="326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沉 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5545080" y="32670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手 榴 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5484960" y="38624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ǐ zhō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18"/>
          <p:cNvSpPr/>
          <p:nvPr/>
        </p:nvSpPr>
        <p:spPr>
          <a:xfrm>
            <a:off x="5796000" y="20620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奋 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7429680" y="429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顶  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10800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悬 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2"/>
          <p:cNvSpPr/>
          <p:nvPr/>
        </p:nvSpPr>
        <p:spPr>
          <a:xfrm>
            <a:off x="7380360" y="49626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 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pān d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1916280" y="542592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斩 钉 截 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2003400" y="4994280"/>
            <a:ext cx="28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zhǎn dīng jié ti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5702400" y="53942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沸 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7502400" y="5394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攀 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文本框 9"/>
          <p:cNvSpPr/>
          <p:nvPr/>
        </p:nvSpPr>
        <p:spPr>
          <a:xfrm>
            <a:off x="1913040" y="16286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ìn   f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文本框 9"/>
          <p:cNvSpPr/>
          <p:nvPr/>
        </p:nvSpPr>
        <p:spPr>
          <a:xfrm>
            <a:off x="3857760" y="1628640"/>
            <a:ext cx="15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óu   j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9"/>
          <p:cNvSpPr/>
          <p:nvPr/>
        </p:nvSpPr>
        <p:spPr>
          <a:xfrm>
            <a:off x="331560" y="50133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xuán y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9"/>
          <p:cNvSpPr/>
          <p:nvPr/>
        </p:nvSpPr>
        <p:spPr>
          <a:xfrm>
            <a:off x="5686560" y="15890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èn  zh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5765760" y="4941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fèi té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5"/>
          <p:cNvGrpSpPr/>
          <p:nvPr/>
        </p:nvGrpSpPr>
        <p:grpSpPr>
          <a:xfrm>
            <a:off x="119160" y="907560"/>
            <a:ext cx="2073240" cy="662040"/>
            <a:chOff x="119160" y="907560"/>
            <a:chExt cx="2073240" cy="662040"/>
          </a:xfrm>
        </p:grpSpPr>
        <p:sp>
          <p:nvSpPr>
            <p:cNvPr id="608" name="直线连接符 21"/>
            <p:cNvSpPr/>
            <p:nvPr/>
          </p:nvSpPr>
          <p:spPr>
            <a:xfrm flipV="1">
              <a:off x="119160" y="90756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9" name="矩形 14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9"/>
          <p:cNvSpPr/>
          <p:nvPr/>
        </p:nvSpPr>
        <p:spPr>
          <a:xfrm>
            <a:off x="286920" y="163044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ī  tu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32400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依 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20"/>
          <p:cNvSpPr/>
          <p:nvPr/>
        </p:nvSpPr>
        <p:spPr>
          <a:xfrm>
            <a:off x="325440" y="278136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óu hè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24"/>
          <p:cNvSpPr/>
          <p:nvPr/>
        </p:nvSpPr>
        <p:spPr>
          <a:xfrm>
            <a:off x="179280" y="328608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仇 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1763640" y="20638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居高 临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3854520" y="204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山 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1763640" y="27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yì   l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1763640" y="326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屹 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2"/>
          <p:cNvSpPr/>
          <p:nvPr/>
        </p:nvSpPr>
        <p:spPr>
          <a:xfrm>
            <a:off x="5508720" y="38624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jiān qiá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108000" y="43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冲 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325440" y="393372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ōng fē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1763640" y="4325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壮  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1979640" y="38941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zhuàng liè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5"/>
          <p:cNvSpPr/>
          <p:nvPr/>
        </p:nvSpPr>
        <p:spPr>
          <a:xfrm>
            <a:off x="370836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豪 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2"/>
          <p:cNvSpPr/>
          <p:nvPr/>
        </p:nvSpPr>
        <p:spPr>
          <a:xfrm>
            <a:off x="3635280" y="2781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tiào wà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5651640" y="27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xǐ  yu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5"/>
          <p:cNvSpPr/>
          <p:nvPr/>
        </p:nvSpPr>
        <p:spPr>
          <a:xfrm>
            <a:off x="3564000" y="326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眺 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5545080" y="326700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喜 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2"/>
          <p:cNvSpPr/>
          <p:nvPr/>
        </p:nvSpPr>
        <p:spPr>
          <a:xfrm>
            <a:off x="3564000" y="38624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háo mà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8"/>
          <p:cNvSpPr/>
          <p:nvPr/>
        </p:nvSpPr>
        <p:spPr>
          <a:xfrm>
            <a:off x="5796000" y="206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粉 身 碎 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5508720" y="429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坚 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10800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 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1916280" y="542592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惊 天 动  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2003400" y="4994280"/>
            <a:ext cx="25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方正中等线简体"/>
                <a:ea typeface="方正中等线简体"/>
              </a:rPr>
              <a:t>jīng tiān dòng d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9"/>
          <p:cNvSpPr/>
          <p:nvPr/>
        </p:nvSpPr>
        <p:spPr>
          <a:xfrm>
            <a:off x="1946520" y="162864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ū gāo lín xi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9"/>
          <p:cNvSpPr/>
          <p:nvPr/>
        </p:nvSpPr>
        <p:spPr>
          <a:xfrm>
            <a:off x="3876480" y="162864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ān ji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9"/>
          <p:cNvSpPr/>
          <p:nvPr/>
        </p:nvSpPr>
        <p:spPr>
          <a:xfrm>
            <a:off x="343800" y="501336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ù q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9"/>
          <p:cNvSpPr/>
          <p:nvPr/>
        </p:nvSpPr>
        <p:spPr>
          <a:xfrm>
            <a:off x="5688360" y="158904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fěn shēn suì g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熟读课文，梳理记叙顺序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0336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是按什么顺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课文是按事情的发展顺序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给每一部分标上小标题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任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任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诱敌上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引上绝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英勇歼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勇跳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2:30:39Z</dcterms:created>
  <dc:creator/>
  <dc:description/>
  <dc:language>en-US</dc:language>
  <cp:lastModifiedBy>万润仪器贸易公司</cp:lastModifiedBy>
  <dcterms:modified xsi:type="dcterms:W3CDTF">2020-08-24T08:42:58Z</dcterms:modified>
  <cp:revision>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